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761D-3186-47C5-BEDB-28423AA0A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83E66-0606-4591-8A5C-D9E7ABE76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81119-B33E-43AD-AD06-9C9C61D8D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D76E3-3D42-4EE4-A68E-C71A6B370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A651E-0763-4FEF-B414-1961470B8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6E7A-4230-4A9C-A91D-C777F0B08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D5C7-8573-4E92-BB9A-764D60B10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0E4A-6951-4872-9AB9-741865B8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ED06-8049-4E6D-B997-B05B0139E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467E-8975-4D8D-BB2C-858527833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8816A-90EB-4D38-AE6E-24C771791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C6183-6AE2-420E-A622-EA76798C1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c2bd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4b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3e4b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e4b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3e4b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067A0-E5F0-4E4D-9F81-3D9A43BA654C}" type="slidenum">
              <a:rPr b="0" lang="en-GB" sz="1400" spc="-1" strike="noStrike">
                <a:solidFill>
                  <a:srgbClr val="3e4b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22880"/>
            <a:ext cx="7840800" cy="91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5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E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gaton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M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ass </a:t>
            </a:r>
            <a:r>
              <a:rPr b="0" lang="fr-FR" sz="4000" spc="-1" strike="noStrike">
                <a:solidFill>
                  <a:srgbClr val="e31d18"/>
                </a:solidFill>
                <a:latin typeface="Comic Sans MS"/>
              </a:rPr>
              <a:t>PHYS</a:t>
            </a:r>
            <a:r>
              <a:rPr b="0" lang="fr-FR" sz="4000" spc="-1" strike="noStrike">
                <a:solidFill>
                  <a:srgbClr val="2c2bdf"/>
                </a:solidFill>
                <a:latin typeface="Comic Sans MS"/>
              </a:rPr>
              <a:t>ics Project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3e4bff"/>
                </a:solidFill>
                <a:latin typeface="Comic Sans MS"/>
              </a:rPr>
              <a:t>Physics Motivation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he Installation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Very Large Laborator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a MegaTon scale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  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- the Neutrino Beam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Expected physics potential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Comic Sans MS"/>
              </a:rPr>
              <a:t>Tentative schedule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B9D6-223E-4F00-929F-ACA05AC8C903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380880" y="4572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A possible schedule for a European Lab. at Frejus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0" y="1219320"/>
            <a:ext cx="9144000" cy="4321080"/>
            <a:chOff x="0" y="1219320"/>
            <a:chExt cx="9144000" cy="4321080"/>
          </a:xfrm>
        </p:grpSpPr>
        <p:sp>
          <p:nvSpPr>
            <p:cNvPr id="125" name=""/>
            <p:cNvSpPr/>
            <p:nvPr/>
          </p:nvSpPr>
          <p:spPr>
            <a:xfrm>
              <a:off x="0" y="1219320"/>
              <a:ext cx="9144000" cy="4321080"/>
            </a:xfrm>
            <a:prstGeom prst="rect">
              <a:avLst/>
            </a:prstGeom>
            <a:solidFill>
              <a:srgbClr val="ffe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79280" y="1423440"/>
              <a:ext cx="8137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Year       2005                      </a:t>
              </a:r>
              <a:r>
                <a:rPr b="0" lang="en-GB" sz="1800" spc="-1" strike="noStrike">
                  <a:solidFill>
                    <a:srgbClr val="0000ff"/>
                  </a:solidFill>
                  <a:latin typeface="Arial"/>
                </a:rPr>
                <a:t>2010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                       2015                       2020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0" y="196056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afety tunnel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1835280" y="1960560"/>
              <a:ext cx="1368360" cy="365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908000" y="1960560"/>
              <a:ext cx="136872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0" y="2433960"/>
              <a:ext cx="133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Lab cavit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492360" y="2433960"/>
              <a:ext cx="2592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Excav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403280" y="2433960"/>
              <a:ext cx="576360" cy="307080"/>
            </a:xfrm>
            <a:prstGeom prst="rect">
              <a:avLst/>
            </a:prstGeom>
            <a:solidFill>
              <a:srgbClr val="713e39"/>
            </a:solidFill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e585"/>
                  </a:solidFill>
                  <a:latin typeface="Arial"/>
                </a:rPr>
                <a:t>P.S</a:t>
              </a:r>
              <a:endParaRPr b="0" lang="en-US" sz="1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979640" y="2433960"/>
              <a:ext cx="129708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tudy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0" y="2905920"/>
              <a:ext cx="1619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 </a:t>
              </a: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ector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835280" y="2905920"/>
              <a:ext cx="143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 R&amp;D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492360" y="2905920"/>
              <a:ext cx="2808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PMT prod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0" y="3445920"/>
              <a:ext cx="183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Det.prepar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364000" y="3380400"/>
              <a:ext cx="201636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Installa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492360" y="3380400"/>
              <a:ext cx="1871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Outside lab.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0" y="3986280"/>
              <a:ext cx="197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Non-acc.physics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300720" y="3919320"/>
              <a:ext cx="284328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P-decay, S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50920" y="4526640"/>
              <a:ext cx="165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780000" y="452664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6659640" y="452664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Super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24000" y="4999680"/>
              <a:ext cx="1439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beta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659640" y="4999680"/>
              <a:ext cx="2484360" cy="368280"/>
            </a:xfrm>
            <a:prstGeom prst="rect">
              <a:avLst/>
            </a:prstGeom>
            <a:solidFill>
              <a:srgbClr val="d3a219"/>
            </a:solidFill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3e4bff"/>
                  </a:solidFill>
                  <a:latin typeface="Arial"/>
                </a:rPr>
                <a:t>Beta beam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1835280" y="3380400"/>
              <a:ext cx="183960" cy="36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364000" y="2433960"/>
              <a:ext cx="0" cy="337680"/>
            </a:xfrm>
            <a:prstGeom prst="line">
              <a:avLst/>
            </a:prstGeom>
            <a:ln w="9360">
              <a:solidFill>
                <a:srgbClr val="cc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780000" y="4999680"/>
              <a:ext cx="2879640" cy="36828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e4bff"/>
                  </a:solidFill>
                  <a:latin typeface="Arial"/>
                </a:rPr>
                <a:t>Construction</a:t>
              </a:r>
              <a:endParaRPr b="0" lang="en-US" sz="18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1826640"/>
              <a:ext cx="0" cy="37134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352680" y="5715000"/>
            <a:ext cx="3384720" cy="916920"/>
          </a:xfrm>
          <a:prstGeom prst="rect">
            <a:avLst/>
          </a:prstGeom>
          <a:solidFill>
            <a:srgbClr val="ffe585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Arial"/>
              </a:rPr>
              <a:t>decision for cavity digging decision for SPL  construction decision for EURISOL site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E847-A927-400E-B46F-4FF736CA2282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68580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Specific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request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 from the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MEMPHYS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Group</a:t>
            </a:r>
            <a:br>
              <a:rPr sz="2400"/>
            </a:b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to the European </a:t>
            </a: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FP7</a:t>
            </a:r>
            <a:r>
              <a:rPr b="0" lang="en-US" sz="2400" spc="-1" strike="noStrike">
                <a:solidFill>
                  <a:srgbClr val="2c2bdf"/>
                </a:solidFill>
                <a:latin typeface="Times New Roman"/>
              </a:rPr>
              <a:t> Network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1828800"/>
            <a:ext cx="640080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Times New Roman"/>
              <a:buAutoNum type="alphaU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31d18"/>
                </a:solidFill>
                <a:latin typeface="Times New Roman"/>
              </a:rPr>
              <a:t>Networking activities</a:t>
            </a:r>
            <a:r>
              <a:rPr b="0" lang="en-US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1) 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Physics potential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of Large Deep Underground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Experiments in both non- accelerator and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ccelerator sector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2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Underground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Laboratories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or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“Mega” detector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best strategie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for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 excav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, access a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equipments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(ventilation, air-conditioning, power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supply, etc.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A3) the </a:t>
            </a:r>
            <a:r>
              <a:rPr b="1" lang="en-US" sz="1800" spc="-1" strike="noStrike">
                <a:solidFill>
                  <a:srgbClr val="e31d18"/>
                </a:solidFill>
                <a:latin typeface="Times New Roman"/>
              </a:rPr>
              <a:t>Safety optimisation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in Very Large Underground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US" sz="1800" spc="-1" strike="noStrike">
                <a:solidFill>
                  <a:srgbClr val="3e4bff"/>
                </a:solidFill>
                <a:latin typeface="Times New Roman"/>
              </a:rPr>
              <a:t>Facilities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2578-F640-4989-A28B-21E65ECB218E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33520" y="838080"/>
            <a:ext cx="7772400" cy="617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B) Joint research activit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1) Development, in close connection with industry (Photonis)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cheap photo-detector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ptimized for covering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large area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suitable to detect Cerenkov light (visible + UV) with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high efficiency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vacuum photo-tube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”standard” (with dynodes) PM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“hybrid” (with PIN or APD diodes) HPD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gaseous photo-tubes,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“wall paper” shaped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CsI photo-cathode (Ultra-Violet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- with bi-alcali photo-cathode (visible region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2) Associate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ultiplex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power supply and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integrated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electron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6B4C8-1165-40B4-91A0-E698305C646C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609480" y="762120"/>
            <a:ext cx="7772400" cy="57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C)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e31d18"/>
                </a:solidFill>
                <a:latin typeface="Times New Roman"/>
              </a:rPr>
              <a:t>Design Studies</a:t>
            </a:r>
            <a:r>
              <a:rPr b="0" lang="en-GB" sz="2400" spc="-1" strike="noStrike">
                <a:solidFill>
                  <a:srgbClr val="3e4bff"/>
                </a:solidFill>
                <a:latin typeface="Times New Roman"/>
              </a:rPr>
              <a:t> concerning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the excavation of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3 to 5 “shafts”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of about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250000 m3 each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in the central region of the Fréjus Tunnel,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associated equipments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and the </a:t>
            </a:r>
            <a:r>
              <a:rPr b="1" lang="en-GB" sz="2000" spc="-1" strike="noStrike">
                <a:solidFill>
                  <a:srgbClr val="e31d18"/>
                </a:solidFill>
                <a:latin typeface="Times New Roman"/>
              </a:rPr>
              <a:t>mechanics of the detector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modules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) precise “in situ” investigation of the rock quality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parameter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b) optimisation of the shafts shape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c) optimisation (choice) of the type of local acces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d) definition of the required equipments : ventilation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air-conditioning, water purification “factory”,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lectric power supply, etc.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e) definition of the best solution for the water containment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              </a:t>
            </a:r>
            <a:r>
              <a:rPr b="0" lang="en-GB" sz="2000" spc="-1" strike="noStrike">
                <a:solidFill>
                  <a:srgbClr val="3e4bff"/>
                </a:solidFill>
                <a:latin typeface="Times New Roman"/>
              </a:rPr>
              <a:t>and for the photo-detectors support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E8E31-833C-4F23-8AD0-43CCE04E1B1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762120" y="533520"/>
            <a:ext cx="7315200" cy="81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Financial contributions asked to FP7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s considered from the MEMPHYS project point of view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10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Networking Activitie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350 K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Joint Research Activities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R&amp;D for Photodetectors and electronics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≈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5 M€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for the </a:t>
            </a:r>
            <a:r>
              <a:rPr b="1" lang="en-GB" sz="2400" spc="-1" strike="noStrike">
                <a:solidFill>
                  <a:srgbClr val="e31d18"/>
                </a:solidFill>
                <a:latin typeface="Comic Sans MS"/>
              </a:rPr>
              <a:t>Design Study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of the Laborator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(and the mechanics of the detector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Comic Sans MS"/>
              </a:rPr>
              <a:t>                  </a:t>
            </a:r>
            <a:r>
              <a:rPr b="0" lang="en-GB" sz="2400" spc="-1" strike="noStrike">
                <a:solidFill>
                  <a:srgbClr val="003399"/>
                </a:solidFill>
                <a:latin typeface="Comic Sans MS"/>
              </a:rPr>
              <a:t>(total cost ≈ 25 M€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7A8E5-6684-4E49-9FC6-8F52627838CA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"/>
          <p:cNvGrpSpPr/>
          <p:nvPr/>
        </p:nvGrpSpPr>
        <p:grpSpPr>
          <a:xfrm>
            <a:off x="7162920" y="838080"/>
            <a:ext cx="1525320" cy="2825640"/>
            <a:chOff x="7162920" y="838080"/>
            <a:chExt cx="1525320" cy="2825640"/>
          </a:xfrm>
        </p:grpSpPr>
        <p:sp>
          <p:nvSpPr>
            <p:cNvPr id="44" name=""/>
            <p:cNvSpPr/>
            <p:nvPr/>
          </p:nvSpPr>
          <p:spPr>
            <a:xfrm>
              <a:off x="7162920" y="838080"/>
              <a:ext cx="152532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173720" y="150624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46" name=""/>
          <p:cNvGrpSpPr/>
          <p:nvPr/>
        </p:nvGrpSpPr>
        <p:grpSpPr>
          <a:xfrm>
            <a:off x="6553080" y="990720"/>
            <a:ext cx="1525680" cy="2825640"/>
            <a:chOff x="6553080" y="990720"/>
            <a:chExt cx="1525680" cy="2825640"/>
          </a:xfrm>
        </p:grpSpPr>
        <p:sp>
          <p:nvSpPr>
            <p:cNvPr id="47" name=""/>
            <p:cNvSpPr/>
            <p:nvPr/>
          </p:nvSpPr>
          <p:spPr>
            <a:xfrm>
              <a:off x="6553080" y="9907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6564240" y="1658880"/>
              <a:ext cx="150192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81532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The </a:t>
            </a:r>
            <a:r>
              <a:rPr b="0" lang="en-GB" sz="3200" spc="-1" strike="noStrike">
                <a:solidFill>
                  <a:srgbClr val="e31d18"/>
                </a:solidFill>
                <a:latin typeface="Comic Sans MS"/>
              </a:rPr>
              <a:t>MEMPHYS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Project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8224920" y="3451320"/>
            <a:ext cx="914400" cy="914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grpSp>
        <p:nvGrpSpPr>
          <p:cNvPr id="51" name=""/>
          <p:cNvGrpSpPr/>
          <p:nvPr/>
        </p:nvGrpSpPr>
        <p:grpSpPr>
          <a:xfrm>
            <a:off x="5943600" y="1143000"/>
            <a:ext cx="1555920" cy="2825640"/>
            <a:chOff x="5943600" y="1143000"/>
            <a:chExt cx="1555920" cy="2825640"/>
          </a:xfrm>
        </p:grpSpPr>
        <p:sp>
          <p:nvSpPr>
            <p:cNvPr id="52" name=""/>
            <p:cNvSpPr/>
            <p:nvPr/>
          </p:nvSpPr>
          <p:spPr>
            <a:xfrm>
              <a:off x="5962680" y="114300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5973840" y="181152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6042240" y="180504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943600" y="179388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56" name=""/>
          <p:cNvGrpSpPr/>
          <p:nvPr/>
        </p:nvGrpSpPr>
        <p:grpSpPr>
          <a:xfrm>
            <a:off x="5029200" y="1219320"/>
            <a:ext cx="1555920" cy="2825640"/>
            <a:chOff x="5029200" y="1219320"/>
            <a:chExt cx="1555920" cy="2825640"/>
          </a:xfrm>
        </p:grpSpPr>
        <p:sp>
          <p:nvSpPr>
            <p:cNvPr id="57" name=""/>
            <p:cNvSpPr/>
            <p:nvPr/>
          </p:nvSpPr>
          <p:spPr>
            <a:xfrm>
              <a:off x="5048280" y="1219320"/>
              <a:ext cx="1525680" cy="1884240"/>
            </a:xfrm>
            <a:prstGeom prst="ellipse">
              <a:avLst/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059440" y="1887840"/>
              <a:ext cx="1501560" cy="215712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5127840" y="1881360"/>
              <a:ext cx="1363320" cy="2130480"/>
            </a:xfrm>
            <a:prstGeom prst="can">
              <a:avLst>
                <a:gd name="adj" fmla="val 25000"/>
              </a:avLst>
            </a:prstGeom>
            <a:solidFill>
              <a:srgbClr val="3366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029200" y="1870200"/>
              <a:ext cx="1555920" cy="598680"/>
            </a:xfrm>
            <a:prstGeom prst="ellipse">
              <a:avLst/>
            </a:prstGeom>
            <a:noFill/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3724200" y="1371600"/>
            <a:ext cx="2241720" cy="2825640"/>
            <a:chOff x="3724200" y="1371600"/>
            <a:chExt cx="2241720" cy="2825640"/>
          </a:xfrm>
        </p:grpSpPr>
        <p:sp>
          <p:nvSpPr>
            <p:cNvPr id="62" name=""/>
            <p:cNvSpPr/>
            <p:nvPr/>
          </p:nvSpPr>
          <p:spPr>
            <a:xfrm>
              <a:off x="4145040" y="2039760"/>
              <a:ext cx="1501560" cy="2157480"/>
            </a:xfrm>
            <a:prstGeom prst="can">
              <a:avLst>
                <a:gd name="adj" fmla="val 25000"/>
              </a:avLst>
            </a:prstGeom>
            <a:solidFill>
              <a:srgbClr val="ffff99"/>
            </a:solidFill>
            <a:ln w="38160">
              <a:solidFill>
                <a:srgbClr val="5c1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grpSp>
          <p:nvGrpSpPr>
            <p:cNvPr id="63" name=""/>
            <p:cNvGrpSpPr/>
            <p:nvPr/>
          </p:nvGrpSpPr>
          <p:grpSpPr>
            <a:xfrm>
              <a:off x="3724200" y="1371600"/>
              <a:ext cx="2241720" cy="2792520"/>
              <a:chOff x="3724200" y="1371600"/>
              <a:chExt cx="2241720" cy="2792520"/>
            </a:xfrm>
          </p:grpSpPr>
          <p:sp>
            <p:nvSpPr>
              <p:cNvPr id="64" name=""/>
              <p:cNvSpPr/>
              <p:nvPr/>
            </p:nvSpPr>
            <p:spPr>
              <a:xfrm>
                <a:off x="4133880" y="1371600"/>
                <a:ext cx="1525320" cy="1884600"/>
              </a:xfrm>
              <a:prstGeom prst="ellipse">
                <a:avLst/>
              </a:prstGeom>
              <a:solidFill>
                <a:srgbClr val="ffff99"/>
              </a:solidFill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4213080" y="2033640"/>
                <a:ext cx="1363680" cy="2130480"/>
              </a:xfrm>
              <a:prstGeom prst="can">
                <a:avLst>
                  <a:gd name="adj" fmla="val 25000"/>
                </a:avLst>
              </a:prstGeom>
              <a:solidFill>
                <a:srgbClr val="33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 flipV="1">
                <a:off x="4265640" y="2261880"/>
                <a:ext cx="1268280" cy="4140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3933720" y="160992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33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flipV="1">
                <a:off x="4238280" y="2428920"/>
                <a:ext cx="28440" cy="1541520"/>
              </a:xfrm>
              <a:prstGeom prst="line">
                <a:avLst/>
              </a:prstGeom>
              <a:ln w="9360">
                <a:solidFill>
                  <a:srgbClr val="ff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3724200" y="2946600"/>
                <a:ext cx="203220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609480" indent="-609480">
                  <a:lnSpc>
                    <a:spcPct val="100000"/>
                  </a:lnSpc>
                  <a:spcBef>
                    <a:spcPts val="6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ffff99"/>
                    </a:solidFill>
                    <a:latin typeface="Comic Sans MS"/>
                  </a:rPr>
                  <a:t>65m</a:t>
                </a:r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114800" y="2022480"/>
                <a:ext cx="1555560" cy="598680"/>
              </a:xfrm>
              <a:prstGeom prst="ellipse">
                <a:avLst/>
              </a:prstGeom>
              <a:noFill/>
              <a:ln w="38160">
                <a:solidFill>
                  <a:srgbClr val="5c1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3e4bff"/>
                  </a:solidFill>
                  <a:latin typeface="Arial"/>
                </a:endParaRPr>
              </a:p>
            </p:txBody>
          </p:sp>
        </p:grpSp>
      </p:grpSp>
      <p:grpSp>
        <p:nvGrpSpPr>
          <p:cNvPr id="71" name=""/>
          <p:cNvGrpSpPr/>
          <p:nvPr/>
        </p:nvGrpSpPr>
        <p:grpSpPr>
          <a:xfrm>
            <a:off x="301680" y="990720"/>
            <a:ext cx="4465440" cy="4792680"/>
            <a:chOff x="301680" y="990720"/>
            <a:chExt cx="4465440" cy="4792680"/>
          </a:xfrm>
        </p:grpSpPr>
        <p:pic>
          <p:nvPicPr>
            <p:cNvPr id="72" name="" descr=""/>
            <p:cNvPicPr/>
            <p:nvPr/>
          </p:nvPicPr>
          <p:blipFill>
            <a:blip r:embed="rId1"/>
            <a:srcRect l="26492" t="13348" r="32464" b="3039"/>
            <a:stretch/>
          </p:blipFill>
          <p:spPr>
            <a:xfrm>
              <a:off x="866520" y="990720"/>
              <a:ext cx="3143160" cy="4326120"/>
            </a:xfrm>
            <a:prstGeom prst="rect">
              <a:avLst/>
            </a:prstGeom>
            <a:ln w="19080">
              <a:solidFill>
                <a:srgbClr val="ff0c14"/>
              </a:solidFill>
              <a:miter/>
            </a:ln>
          </p:spPr>
        </p:pic>
        <p:sp>
          <p:nvSpPr>
            <p:cNvPr id="73" name=""/>
            <p:cNvSpPr/>
            <p:nvPr/>
          </p:nvSpPr>
          <p:spPr>
            <a:xfrm>
              <a:off x="301680" y="4581720"/>
              <a:ext cx="227124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Fréjus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709720" y="482292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186200" y="1825920"/>
              <a:ext cx="2181600" cy="459720"/>
            </a:xfrm>
            <a:prstGeom prst="rect">
              <a:avLst/>
            </a:prstGeom>
            <a:solidFill>
              <a:srgbClr val="ffff99"/>
            </a:solidFill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3399"/>
                  </a:solidFill>
                  <a:latin typeface="Comic Sans MS"/>
                </a:rPr>
                <a:t>CERN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454040" y="2038680"/>
              <a:ext cx="196560" cy="1713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03080" y="2271960"/>
              <a:ext cx="1104840" cy="26334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942120" y="3203640"/>
              <a:ext cx="2698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7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200" spc="-1" strike="noStrike">
                  <a:solidFill>
                    <a:srgbClr val="ffff99"/>
                  </a:solidFill>
                  <a:latin typeface="Comic Sans MS"/>
                </a:rPr>
                <a:t>130km</a:t>
              </a:r>
              <a:endParaRPr b="0" lang="en-US" sz="32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838080" y="5265720"/>
              <a:ext cx="183960" cy="517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933200" y="5253120"/>
              <a:ext cx="283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609480" indent="-609480"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400" spc="-1" strike="noStrike">
                  <a:solidFill>
                    <a:srgbClr val="e31d18"/>
                  </a:solidFill>
                  <a:latin typeface="Comic Sans MS"/>
                </a:rPr>
                <a:t>4800mwe</a:t>
              </a:r>
              <a:endParaRPr b="0" lang="en-US" sz="2400" spc="-1" strike="noStrike">
                <a:solidFill>
                  <a:srgbClr val="3e4bff"/>
                </a:solidFill>
                <a:latin typeface="Arial"/>
              </a:endParaRPr>
            </a:p>
          </p:txBody>
        </p:sp>
      </p:grpSp>
      <p:sp>
        <p:nvSpPr>
          <p:cNvPr id="81" name=""/>
          <p:cNvSpPr/>
          <p:nvPr/>
        </p:nvSpPr>
        <p:spPr>
          <a:xfrm>
            <a:off x="1066680" y="5638680"/>
            <a:ext cx="77774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Comic Sans MS"/>
              </a:rPr>
              <a:t>Excavation engineering pre-study has been done for 5 shafts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14800" y="4114800"/>
            <a:ext cx="487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3399"/>
                </a:solidFill>
                <a:latin typeface="Comic Sans MS"/>
              </a:rPr>
              <a:t>Water Cerenkov modules at Fréju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 flipV="1">
            <a:off x="4038120" y="5028840"/>
            <a:ext cx="68580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4038120" y="5029200"/>
            <a:ext cx="762120" cy="3808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H="1" flipV="1">
            <a:off x="4038480" y="4876560"/>
            <a:ext cx="3200400" cy="6094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114800" y="4724280"/>
            <a:ext cx="43434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CERN to Fréjus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3399"/>
                </a:solidFill>
                <a:latin typeface="Comic Sans MS"/>
              </a:rPr>
              <a:t>Neutrino Super-beam and Beta-beam</a:t>
            </a:r>
            <a:endParaRPr b="0" lang="en-US" sz="1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314A-6E76-4215-A76F-BC2EA4C1360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2c2bdf"/>
                </a:solidFill>
                <a:latin typeface="Comic Sans MS"/>
              </a:rPr>
              <a:t>Physics Motivations</a:t>
            </a:r>
            <a:endParaRPr b="0" lang="en-US" sz="36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15328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ucle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Novae Neutrino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burst &amp; relic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olar &amp; Atmospheric Neutrino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Neutrinos from Accelerator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      </a:t>
            </a: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Super Beam, Beta Beam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nd also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990720" indent="-533520">
              <a:lnSpc>
                <a:spcPct val="100000"/>
              </a:lnSpc>
              <a:spcBef>
                <a:spcPts val="499"/>
              </a:spcBef>
              <a:buClr>
                <a:srgbClr val="3e4bff"/>
              </a:buClr>
              <a:buFont typeface="Comic Sans M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Comic Sans MS"/>
              </a:rPr>
              <a:t>Dark Matter (WIMP) indirect detection, High energy neutrinos,…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80345-72ED-4E9D-8615-3E4975B9D83F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2c2bdf"/>
                </a:solidFill>
                <a:latin typeface="Comic Sans MS"/>
              </a:rPr>
              <a:t>A Very Large Laboratory</a:t>
            </a:r>
            <a:endParaRPr b="0" lang="en-US" sz="40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11040" y="1386000"/>
            <a:ext cx="843768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In the middle of the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Fréjus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tunnel at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depth 4800 m.w.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where the quality of the rock is the best !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 algn="just">
              <a:lnSpc>
                <a:spcPct val="100000"/>
              </a:lnSpc>
              <a:spcBef>
                <a:spcPts val="601"/>
              </a:spcBef>
              <a:buClr>
                <a:srgbClr val="3e4b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preliminary investigation shows the feasibility of excavating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up to five shafts of about 250,000 m</a:t>
            </a:r>
            <a:r>
              <a:rPr b="0" lang="en-GB" sz="2400" spc="-1" strike="noStrike" baseline="30000">
                <a:solidFill>
                  <a:srgbClr val="e31d18"/>
                </a:solidFill>
                <a:latin typeface="Comic Sans MS"/>
              </a:rPr>
              <a:t>3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 each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343400" y="3429000"/>
            <a:ext cx="4495680" cy="311472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33520" y="3657600"/>
            <a:ext cx="312408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Estimated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cost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: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≈ </a:t>
            </a:r>
            <a:r>
              <a:rPr b="0" lang="en-GB" sz="2000" spc="-1" strike="noStrike">
                <a:solidFill>
                  <a:srgbClr val="e31d18"/>
                </a:solidFill>
                <a:latin typeface="Comic Sans MS"/>
              </a:rPr>
              <a:t>80 M€ x Nb of shaft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44CC-7BE9-49EA-946D-F20A23FE98D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A MegaTon scale Detector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676520"/>
            <a:ext cx="8763120" cy="463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3 to 4 Water Cerenkov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modules ( = 20 x Super K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≈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500kT fiducial mass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) equipped with a large number of Photodetectors (eg. 250,000 PMTs 12”)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very well proved and robust technique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which provided already remarkable physical results mainly in Nucleon Decay and Neutrino Physics and Astrophysics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F2F3-FD02-4627-8DA6-1F65A786031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5471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Very intense 300</a:t>
            </a:r>
            <a:r>
              <a:rPr b="0" lang="en-US" sz="3200" spc="-1" strike="noStrike">
                <a:solidFill>
                  <a:srgbClr val="2c2bdf"/>
                </a:solidFill>
                <a:latin typeface="Comic Sans MS"/>
              </a:rPr>
              <a:t>÷400 MeV</a:t>
            </a:r>
            <a:r>
              <a:rPr b="0" lang="en-GB" sz="3200" spc="-1" strike="noStrike">
                <a:solidFill>
                  <a:srgbClr val="2c2bdf"/>
                </a:solidFill>
                <a:latin typeface="Comic Sans MS"/>
              </a:rPr>
              <a:t> Neutrino Beams from CERN</a:t>
            </a:r>
            <a:endParaRPr b="0" lang="en-US" sz="32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2209320"/>
            <a:ext cx="807732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Super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based on a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4MW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roton Driver (eg. SPL) :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pion decay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Beta Beam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(possibly in connection with the EURISOL project)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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and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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e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from heavy ions decay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4547-5636-4270-B512-1DD5FA94288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480" y="762120"/>
            <a:ext cx="825984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</a:t>
            </a:r>
            <a:br>
              <a:rPr sz="32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non accelerator physics</a:t>
            </a:r>
            <a:br>
              <a:rPr sz="2800"/>
            </a:b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077320" cy="441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92160" indent="-92160">
              <a:lnSpc>
                <a:spcPct val="90000"/>
              </a:lnSpc>
              <a:spcBef>
                <a:spcPts val="601"/>
              </a:spcBef>
              <a:buClr>
                <a:srgbClr val="e31d1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ucleon decay</a:t>
            </a:r>
            <a:r>
              <a:rPr b="0" lang="en-GB" sz="2400" spc="-1" strike="noStrike" baseline="30000">
                <a:solidFill>
                  <a:srgbClr val="3e4bff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    up to </a:t>
            </a:r>
            <a:r>
              <a:rPr b="0" lang="ja-JP" sz="2000" spc="-1" strike="noStrike">
                <a:solidFill>
                  <a:srgbClr val="e31d18"/>
                </a:solidFill>
                <a:latin typeface="Arial"/>
              </a:rPr>
              <a:t>～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5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e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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0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-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   few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10</a:t>
            </a:r>
            <a:r>
              <a:rPr b="0" lang="en-GB" sz="2000" spc="-1" strike="noStrike" baseline="30000">
                <a:solidFill>
                  <a:srgbClr val="e31d18"/>
                </a:solidFill>
                <a:latin typeface="Arial"/>
              </a:rPr>
              <a:t>34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yrs (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p→</a:t>
            </a:r>
            <a:r>
              <a:rPr b="1" lang="en-GB" sz="2000" spc="-1" strike="noStrike">
                <a:solidFill>
                  <a:srgbClr val="e31d18"/>
                </a:solidFill>
                <a:latin typeface="Symbol"/>
                <a:ea typeface="Symbol"/>
              </a:rPr>
              <a:t></a:t>
            </a:r>
            <a:r>
              <a:rPr b="1" lang="en-GB" sz="2000" spc="-1" strike="noStrike">
                <a:solidFill>
                  <a:srgbClr val="e31d18"/>
                </a:solidFill>
                <a:latin typeface="Arial"/>
              </a:rPr>
              <a:t>K</a:t>
            </a:r>
            <a:r>
              <a:rPr b="1" lang="en-GB" sz="2000" spc="-1" strike="noStrike" baseline="30000">
                <a:solidFill>
                  <a:srgbClr val="e31d18"/>
                </a:solidFill>
                <a:latin typeface="Arial"/>
              </a:rPr>
              <a:t>+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) </a:t>
            </a:r>
            <a:r>
              <a:rPr b="0" lang="en-GB" sz="1400" spc="-1" strike="noStrike">
                <a:solidFill>
                  <a:srgbClr val="3e4bff"/>
                </a:solidFill>
                <a:latin typeface="Arial"/>
              </a:rPr>
              <a:t>with a detection threshold below 6MeV </a:t>
            </a:r>
            <a:endParaRPr b="0" lang="en-US" sz="14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Neutrino burst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150,00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SN at 10kpc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50 events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from Andromeda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marL="921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marL="92160" indent="-92160">
              <a:lnSpc>
                <a:spcPct val="90000"/>
              </a:lnSpc>
              <a:spcBef>
                <a:spcPts val="499"/>
              </a:spcBef>
              <a:buClr>
                <a:srgbClr val="e31d1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Relic Neutrinos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from </a:t>
            </a:r>
            <a:r>
              <a:rPr b="0" lang="en-GB" sz="2000" spc="-1" strike="noStrike">
                <a:solidFill>
                  <a:srgbClr val="e31d18"/>
                </a:solidFill>
                <a:latin typeface="Arial"/>
              </a:rPr>
              <a:t>past Super-Novae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explosion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 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pure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water)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-533520">
              <a:lnSpc>
                <a:spcPct val="90000"/>
              </a:lnSpc>
              <a:spcBef>
                <a:spcPts val="451"/>
              </a:spcBef>
              <a:buClr>
                <a:srgbClr val="e31d18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2500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events/10y/0.5Mt (with </a:t>
            </a:r>
            <a:r>
              <a:rPr b="0" lang="en-GB" sz="1800" spc="-1" strike="noStrike">
                <a:solidFill>
                  <a:srgbClr val="e31d18"/>
                </a:solidFill>
                <a:latin typeface="Arial"/>
              </a:rPr>
              <a:t>Gd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loaded water)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lvl="1" marL="12463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9E797-6B02-4AF2-8A6C-EDA02FF9441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80520" y="533160"/>
            <a:ext cx="8186760" cy="126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2c2bdf"/>
                </a:solidFill>
                <a:latin typeface="Comic Sans MS"/>
              </a:rPr>
              <a:t>Main Physics potential </a:t>
            </a:r>
            <a:r>
              <a:rPr b="0" lang="en-GB" sz="2000" spc="-1" strike="noStrike">
                <a:solidFill>
                  <a:srgbClr val="2c2bdf"/>
                </a:solidFill>
                <a:latin typeface="Comic Sans MS"/>
              </a:rPr>
              <a:t>(continued)</a:t>
            </a:r>
            <a:br>
              <a:rPr sz="4800"/>
            </a:b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B)</a:t>
            </a:r>
            <a:r>
              <a:rPr b="1" lang="en-GB" sz="2400" spc="-1" strike="noStrike">
                <a:solidFill>
                  <a:srgbClr val="e3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e30000"/>
                </a:solidFill>
                <a:latin typeface="Comic Sans MS"/>
              </a:rPr>
              <a:t>accelerator physics</a:t>
            </a:r>
            <a:endParaRPr b="0" lang="en-US" sz="2400" spc="-1" strike="noStrike">
              <a:solidFill>
                <a:srgbClr val="2c2bd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8915400" cy="43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e4b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e4bff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e31d18"/>
                </a:solidFill>
                <a:latin typeface="Comic Sans MS"/>
              </a:rPr>
              <a:t>PMNS matrix</a:t>
            </a:r>
            <a:r>
              <a:rPr b="0" lang="en-GB" sz="2400" spc="-1" strike="noStrike">
                <a:solidFill>
                  <a:srgbClr val="3e4bff"/>
                </a:solidFill>
                <a:latin typeface="Comic Sans MS"/>
              </a:rPr>
              <a:t> parameters measurement :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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13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 &lt; 0.7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@90%CL (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0" lang="en-GB" sz="24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beam 2.5Mt.y)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-&gt;  for 40°&lt;|</a:t>
            </a:r>
            <a:r>
              <a:rPr b="0" lang="en-GB" sz="2400" spc="-1" strike="noStrike">
                <a:solidFill>
                  <a:srgbClr val="e31d18"/>
                </a:solidFill>
                <a:latin typeface="Symbol"/>
                <a:ea typeface="Symbol"/>
              </a:rPr>
              <a:t></a:t>
            </a:r>
            <a:r>
              <a:rPr b="0" lang="en-GB" sz="2400" spc="-1" strike="noStrike" baseline="-25000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|&lt;140°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: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CP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e31d18"/>
                </a:solidFill>
                <a:latin typeface="Arial"/>
              </a:rPr>
              <a:t>violation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discovery @ &gt; 3</a:t>
            </a:r>
            <a:r>
              <a:rPr b="0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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   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( at </a:t>
            </a:r>
            <a:r>
              <a:rPr b="0" lang="en-GB" sz="2000" spc="-1" strike="noStrike">
                <a:solidFill>
                  <a:srgbClr val="3e4bff"/>
                </a:solidFill>
                <a:latin typeface="Symbol"/>
                <a:ea typeface="Symbol"/>
              </a:rPr>
              <a:t></a:t>
            </a:r>
            <a:r>
              <a:rPr b="0" lang="en-GB" sz="2000" spc="-1" strike="noStrike" baseline="-25000">
                <a:solidFill>
                  <a:srgbClr val="3e4bff"/>
                </a:solidFill>
                <a:latin typeface="Arial"/>
              </a:rPr>
              <a:t>13</a:t>
            </a:r>
            <a:r>
              <a:rPr b="0" lang="en-GB" sz="2000" spc="-1" strike="noStrike">
                <a:solidFill>
                  <a:srgbClr val="3e4bff"/>
                </a:solidFill>
                <a:latin typeface="Arial"/>
              </a:rPr>
              <a:t> = 1° and 10yrs of Beta Beam and Super Beam )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5554-99D8-4C55-B414-07F8A793D4D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8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754200" y="3571920"/>
            <a:ext cx="0" cy="865080"/>
          </a:xfrm>
          <a:prstGeom prst="line">
            <a:avLst/>
          </a:prstGeom>
          <a:ln w="9360">
            <a:solidFill>
              <a:srgbClr val="5c1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98560" y="2347920"/>
            <a:ext cx="7488360" cy="299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</a:t>
            </a:r>
            <a:r>
              <a:rPr b="0" lang="en-GB" sz="1800" spc="-1" strike="noStrike">
                <a:solidFill>
                  <a:srgbClr val="3e4bff"/>
                </a:solidFill>
                <a:latin typeface="Comic Sans MS"/>
              </a:rPr>
              <a:t>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SUPERBEAM</a:t>
            </a:r>
            <a:r>
              <a:rPr b="0" lang="en-GB" sz="24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           </a:t>
            </a:r>
            <a:r>
              <a:rPr b="1" lang="en-GB" sz="2400" spc="-1" strike="noStrike">
                <a:solidFill>
                  <a:srgbClr val="3e4bff"/>
                </a:solidFill>
                <a:latin typeface="Comic Sans MS"/>
              </a:rPr>
              <a:t>BETABEAM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  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"/>
              </a:rPr>
              <a:t>e</a:t>
            </a:r>
            <a:r>
              <a:rPr b="1" lang="en-GB" sz="2800" spc="-1" strike="noStrike">
                <a:solidFill>
                  <a:srgbClr val="3e4bff"/>
                </a:solidFill>
                <a:latin typeface=""/>
              </a:rPr>
              <a:t> 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"/>
              </a:rPr>
              <a:t>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→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                              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Arial"/>
              </a:rPr>
              <a:t>e </a:t>
            </a:r>
            <a:r>
              <a:rPr b="1" lang="en-GB" sz="2800" spc="-1" strike="noStrike">
                <a:solidFill>
                  <a:srgbClr val="3e4bff"/>
                </a:solidFill>
                <a:latin typeface="Arial"/>
              </a:rPr>
              <a:t> → </a:t>
            </a:r>
            <a:r>
              <a:rPr b="1" lang="en-GB" sz="2800" spc="-1" strike="noStrike">
                <a:solidFill>
                  <a:srgbClr val="3e4bff"/>
                </a:solidFill>
                <a:latin typeface="Symbol"/>
                <a:ea typeface="Symbol"/>
              </a:rPr>
              <a:t></a:t>
            </a:r>
            <a:r>
              <a:rPr b="1" lang="en-GB" sz="2800" spc="-1" strike="noStrike" baseline="-25000">
                <a:solidFill>
                  <a:srgbClr val="3e4bff"/>
                </a:solidFill>
                <a:latin typeface="Symbol"/>
                <a:ea typeface="Symbol"/>
              </a:rPr>
              <a:t></a:t>
            </a:r>
            <a:endParaRPr b="0" lang="en-US" sz="2800" spc="-1" strike="noStrike">
              <a:solidFill>
                <a:srgbClr val="3e4b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Symbol"/>
                <a:ea typeface="Symbol"/>
              </a:rPr>
              <a:t>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9480" y="762120"/>
            <a:ext cx="7740720" cy="56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ff"/>
                </a:solidFill>
                <a:latin typeface="Comic Sans MS"/>
              </a:rPr>
              <a:t>Superbeam + beta beam together</a:t>
            </a:r>
            <a:endParaRPr b="0" lang="en-US" sz="36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473120" y="4437000"/>
            <a:ext cx="28908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54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081840" y="4437000"/>
            <a:ext cx="21564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018200" y="4437000"/>
            <a:ext cx="216000" cy="0"/>
          </a:xfrm>
          <a:prstGeom prst="line">
            <a:avLst/>
          </a:prstGeom>
          <a:ln w="381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78200" y="3645000"/>
            <a:ext cx="502920" cy="576000"/>
          </a:xfrm>
          <a:prstGeom prst="upDownArrow">
            <a:avLst>
              <a:gd name="adj1" fmla="val 50000"/>
              <a:gd name="adj2" fmla="val 22800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86560" y="3645000"/>
            <a:ext cx="557280" cy="576000"/>
          </a:xfrm>
          <a:prstGeom prst="upDownArrow">
            <a:avLst>
              <a:gd name="adj1" fmla="val 50000"/>
              <a:gd name="adj2" fmla="val 20576"/>
            </a:avLst>
          </a:prstGeom>
          <a:solidFill>
            <a:srgbClr val="0000ff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562200" y="4579920"/>
            <a:ext cx="1944720" cy="287280"/>
          </a:xfrm>
          <a:prstGeom prst="leftRightArrow">
            <a:avLst>
              <a:gd name="adj1" fmla="val 50000"/>
              <a:gd name="adj2" fmla="val 134762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62200" y="3139920"/>
            <a:ext cx="1944720" cy="287640"/>
          </a:xfrm>
          <a:prstGeom prst="leftRightArrow">
            <a:avLst>
              <a:gd name="adj1" fmla="val 50000"/>
              <a:gd name="adj2" fmla="val 134593"/>
            </a:avLst>
          </a:prstGeom>
          <a:solidFill>
            <a:srgbClr val="cc0000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e4bff"/>
                </a:solidFill>
                <a:latin typeface="Arial"/>
              </a:rPr>
              <a:t>                               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4057800">
            <a:off x="4377600" y="2527200"/>
            <a:ext cx="211320" cy="3024360"/>
          </a:xfrm>
          <a:prstGeom prst="upDownArrow">
            <a:avLst>
              <a:gd name="adj1" fmla="val 50000"/>
              <a:gd name="adj2" fmla="val 284910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rot="1516800">
            <a:off x="2970360" y="4000320"/>
            <a:ext cx="2989080" cy="180720"/>
          </a:xfrm>
          <a:prstGeom prst="leftRightArrow">
            <a:avLst>
              <a:gd name="adj1" fmla="val 50000"/>
              <a:gd name="adj2" fmla="val 329265"/>
            </a:avLst>
          </a:prstGeom>
          <a:solidFill>
            <a:srgbClr val="990099"/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920" bIns="43920" anchor="ctr">
            <a:noAutofit/>
          </a:bodyPr>
          <a:p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546200" y="5156280"/>
            <a:ext cx="6264360" cy="703800"/>
          </a:xfrm>
          <a:prstGeom prst="rect">
            <a:avLst/>
          </a:prstGeom>
          <a:noFill/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2 ways of testing </a:t>
            </a:r>
            <a:r>
              <a:rPr b="1" lang="en-GB" sz="2000" spc="-1" strike="noStrike">
                <a:solidFill>
                  <a:srgbClr val="0000ff"/>
                </a:solidFill>
                <a:latin typeface="Arial"/>
              </a:rPr>
              <a:t>CP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, </a:t>
            </a:r>
            <a:r>
              <a:rPr b="1" lang="en-GB" sz="2000" spc="-1" strike="noStrike">
                <a:solidFill>
                  <a:srgbClr val="cc0000"/>
                </a:solidFill>
                <a:latin typeface="Arial"/>
              </a:rPr>
              <a:t>T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 and </a:t>
            </a:r>
            <a:r>
              <a:rPr b="1" lang="en-GB" sz="2000" spc="-1" strike="noStrike">
                <a:solidFill>
                  <a:srgbClr val="990099"/>
                </a:solidFill>
                <a:latin typeface="Arial"/>
              </a:rPr>
              <a:t>CPT </a:t>
            </a:r>
            <a:r>
              <a:rPr b="1" lang="en-GB" sz="2000" spc="-1" strike="noStrike">
                <a:solidFill>
                  <a:srgbClr val="3e4bff"/>
                </a:solidFill>
                <a:latin typeface="Arial"/>
              </a:rPr>
              <a:t>: redundancy and check of systematics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635280" y="1989000"/>
            <a:ext cx="1873440" cy="1015920"/>
          </a:xfrm>
          <a:prstGeom prst="rect">
            <a:avLst/>
          </a:prstGeom>
          <a:solidFill>
            <a:srgbClr val="ebf2ac">
              <a:alpha val="55000"/>
            </a:srgbClr>
          </a:solidFill>
          <a:ln w="9360">
            <a:solidFill>
              <a:srgbClr val="3e4b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e4bff"/>
                </a:solidFill>
                <a:latin typeface="Arial"/>
              </a:rPr>
              <a:t>2 beams</a:t>
            </a:r>
            <a:r>
              <a:rPr b="1" lang="en-GB" sz="1800" spc="-1" strike="noStrike">
                <a:solidFill>
                  <a:srgbClr val="3e4b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3e4bff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e31d18"/>
                </a:solidFill>
                <a:latin typeface="Arial"/>
              </a:rPr>
              <a:t>1 detector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-260640" y="299412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2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-33228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8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984720" y="299556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984720" y="4289400"/>
            <a:ext cx="2202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9900"/>
                </a:solidFill>
                <a:latin typeface="Comic Sans MS"/>
              </a:rPr>
              <a:t>5yrs</a:t>
            </a:r>
            <a:endParaRPr b="0" lang="en-US" sz="32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035040" y="2717640"/>
            <a:ext cx="196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pure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2600" y="2717640"/>
            <a:ext cx="320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4 </a:t>
            </a:r>
            <a:r>
              <a:rPr b="0" lang="en-GB" sz="2000" spc="-1" strike="noStrike">
                <a:solidFill>
                  <a:srgbClr val="003399"/>
                </a:solidFill>
                <a:latin typeface="Symbol"/>
                <a:ea typeface="Symbol"/>
              </a:rPr>
              <a:t></a:t>
            </a:r>
            <a:r>
              <a:rPr b="0" lang="en-GB" sz="2000" spc="-1" strike="noStrike">
                <a:solidFill>
                  <a:srgbClr val="003399"/>
                </a:solidFill>
                <a:latin typeface="Comic Sans MS"/>
              </a:rPr>
              <a:t> flavours + K</a:t>
            </a:r>
            <a:endParaRPr b="0" lang="en-US" sz="20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-214560" y="3730680"/>
            <a:ext cx="19836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</a:t>
            </a:r>
            <a:r>
              <a:rPr b="0" lang="en-GB" sz="2400" spc="-1" strike="noStrike">
                <a:solidFill>
                  <a:srgbClr val="003399"/>
                </a:solidFill>
                <a:latin typeface="Symbol"/>
                <a:ea typeface="Symbol"/>
              </a:rPr>
              <a:t></a:t>
            </a:r>
            <a:r>
              <a:rPr b="0" lang="en-GB" sz="2400" spc="-1" strike="noStrike" baseline="30000">
                <a:solidFill>
                  <a:srgbClr val="003399"/>
                </a:solidFill>
                <a:latin typeface="Symbol"/>
                <a:ea typeface="Symbol"/>
              </a:rPr>
              <a:t></a:t>
            </a:r>
            <a:endParaRPr b="0" lang="en-US" sz="2400" spc="-1" strike="noStrike">
              <a:solidFill>
                <a:srgbClr val="3e4b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pPEC/FP7 meeting in Munich November 2005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442-DAA0-4BAA-89A9-D626A5C22302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/11/05</a:t>
            </a:r>
          </a:p>
        </p:txBody>
      </p:sp>
    </p:spTree>
  </p:cSld>
  <p:transition>
    <p:pull dir="l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22:17:48Z</dcterms:created>
  <dc:creator>Luigi Mosca</dc:creator>
  <dc:description/>
  <dc:language>en-US</dc:language>
  <cp:lastModifiedBy>J.E Campagne</cp:lastModifiedBy>
  <dcterms:modified xsi:type="dcterms:W3CDTF">2005-11-14T08:44:06Z</dcterms:modified>
  <cp:revision>32</cp:revision>
  <dc:subject/>
  <dc:title>Présentation PowerPoint</dc:title>
</cp:coreProperties>
</file>